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829-5718-4F4F-BE66-5EED0D1F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89C-8E51-411C-90B8-681C13DC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BB9E-FFC2-4A84-B1F0-A5A24E6D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C04-AB84-4707-9590-E970505F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6202C-0AFF-4F9C-900C-460C24D3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11805-406B-4BA5-A1EE-44748F05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8AB35-C0F8-402F-9BDC-AA45307A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5D4B8-BAF1-4F50-B1B2-331E1F98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D8AF3-807C-4A14-97F7-E2F8E025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248B8-E89F-4610-AB56-0EF617E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344E8-8667-4FBC-A547-78B99308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629-8F31-4316-A8C9-373DE93F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52068-9C0B-4AC5-A9CD-2E071C2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42C79D-F538-4A78-8F7C-293DE0D4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785F3-4D4C-4136-914D-A38C6778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95DB-1943-46BF-828C-A2C140C8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AB529-87AD-46ED-AD47-1565EB35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F9CD-E4C5-4B3E-9946-C78F326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1ED3-7094-4DCC-945F-8CC7D958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2805-C2FD-407C-ADAF-B73D955A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BDD-2C79-4035-A37D-72F175F0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1BD-0D6B-4D7B-B032-97F65C4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2CB-0354-40E7-B4AB-B5B2CC9B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9356-1A9D-43FC-8A9C-57ACD3BD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1481-FE47-4D08-986C-3DE7C76EB4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3B01-2E6B-43A1-A4D5-6CB38EDC10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99692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APTER 3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utting Down Roots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br>
              <a:rPr sz="36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portunity and Oppression in Colonial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Bra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ety: The Gent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bacco the basis of Chesapeake weal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 landowners had to have labor under their contr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 planters few but domin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ived with capital to invest in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assed huge tracts of l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try intermarried and become colony’s elite leade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ety: The Free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argest class in Chesapeake soci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freed at the end of inden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ed on the edge of pov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Indentured Serv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tude a temporary stat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ditions har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ants regarded their bondage as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ters feared rebe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Post-1680s Sta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fore 1680, the rank of gentry was open to people with capi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ographic shift after 1680 created Creole e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hip of slaves consolidated planter wealth and pos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emen found advancement more difficu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ructure of Planter Society: A Dispersed Pop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rge-scale tobacco cultivation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 landhold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y access to water-borne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ult: population dispersed along great tidal riv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rginia a rural society devoid of tow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ducation system was seen as unnecessary and got little atten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ace and Freedom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British Amer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ians decimated by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pean indentured servant pool waned after 16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slaved Africans filled demand for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oots of Slave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Africans came to Virginia in 161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of Africans in Virginia unclear for fifty ye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ing black population in Virginia after 1672 prompted stricter slav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ricans defined as slaves for lif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lave status passed on to childr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te masters possessed total control of slave life and lab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ing of races not tole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igins and Destinations of African Slaves, 1619-17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945" t="1718" r="1020" b="567"/>
          <a:stretch/>
        </p:blipFill>
        <p:spPr>
          <a:xfrm>
            <a:off x="609480" y="190512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Geography’s Influenc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lave experience differed from colony to colon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0% of South Carolina population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arly half Virginia population bl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s much less numerous in New England and the Middle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African Initi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der black population tended to look down on recent arrivals from Afr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fricans participated in creating an African American 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quired an imaginative re-shaping of African and European custom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720, African population and culture were self-sust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urces of Stability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 England Colonies of the Seventeenth Century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2742840"/>
            <a:ext cx="792324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Englanders replicated traditional English social ord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asted with experience in other English colon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nation lies in development of Puritan fami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structing African American Identities: Slave Resist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despread resentment of debased stat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med resistance such as South Carolina’s Stono Rebellion of 1739 a thre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mariners linked African American communities and brought news of outside world to American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ise of a Commercial Empi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leaders ignored colonies until 165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ored monarchy of Charles II recognized value of colonial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vigation Acts passed to regulate, protect, glean revenue from commer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e to Economic Compet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cantilism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e country’s gain is another country’s lo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ries gain by control of world’s scarce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ish trade regulations mor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d ho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sponses to particular problems than coherent mercantilist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arieties of motiv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own wanted m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glish merchants wanted to exclude Du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liament wanted stronger navy—encouraged domestic shipbuilding indust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people preferred more exports, less im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avigation Act of 1660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ips engaged in English colonial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be made in England (or Americ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st carry a crew at least 75% Englis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umerated goods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onl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o English 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660 list included tobacco, sugar, cotton, indigo, dyes, gin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704-1705 molasses, rice, naval stores al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ff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couraged ship building in Eng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de it harder for rivals to get certain goo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ted revenue for the crow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 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avigation Act of 166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taple A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s shipped to English colonies must pass through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reased price paid by colonial consum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gulating Colonial Trade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ing the Act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Acts aimed at removing Dutch role in English commer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nters hurt by Navigation A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merchants skirted law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glish revisions tightened looph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96—Admiralty Courts and Board of Trade creat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vigation Acts eventually benefited colonial merch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onial Factions Spark Political Revolt, 1676-169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 colonies experienced unrest at the end of the seventeenth centu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rest not social revolution but a contest between gentry “ins” and “ou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ners gained legitimacy for their ru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vil War in Virginia: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acon’s Rebellion—Beginnin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6600" y="2189160"/>
            <a:ext cx="7930800" cy="38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ntent with Governor Berkeley’s r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en Spring faction controlled lucrative economic activ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ier population felt that Berkeley did not protect them from Native Americ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haniel Bacon united this discontent into rebellion in 16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lion allowed small farmers, blacks and women to join, demand refor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ivil War in Virginia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on’s Rebellion—Outco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s burned capital, caused great dis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or William Berkeley regained control, but was recalled to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bellion collapsed after Bacon’s dea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ntry recovered positions and united over next decades to oppose royal govern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King Philip’s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6920" y="2189160"/>
            <a:ext cx="7710480" cy="382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 divided by increased tra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ught non-Puritan settl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vigation Acts inflicted direct royal pres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75—Metacomet led Wampanoag-Narragansett alliance against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sts struggled to unite, to defeat Ind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aths totaled 1000+ Indians and colonis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migrant Famili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d New Social Orde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ritans believed God ordained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oduced patriarchal English family structure in New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ge population growth caused by high life expectancy more than high fert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eater longevity in New England resulted in “invention” of grand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ltigenerational families strengthened social 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The Dominion of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4—King James II established “Dominion of New England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al charters annul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onies from Maine to New Jersey uni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mund Andros appointed governor, ruled tyrannically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89—news of James II’s overthrow sparked rebellion in Massachuset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the Bay Colony: Outcom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dros deposed when word of revolution in England reached New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minion of New England split up in 169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iam III and Mary II gave Massachusetts a new char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rporated Plymou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ting rights based on property and wealth, not church memb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gion of Witchcra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rges of witchcraft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used witches thought to have made a compact with the dev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lem panic of 1691 much larger in scope than previous accu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enty victims dead before trials halted in late summer of 169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nisters outside Salem condemned practice of using “Spectral Evidence” in t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 included church factionalism, economic jealousy, misogyny, and fear of Native American att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ew Y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ying tension between older Dutch elite and newly wealthy Anglo-Dutch merch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89—news of James II’s overthrow prompted crisis of authority in New Y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cob Leisler seized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ed position through 169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691—Governor Henry Sloughter arrested and executed Leis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Glorious Revolution in Mary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89—news prompted John Coode to lead revolt against Catholic govern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ode’s rebellion approved by King Willi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land as Royal col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yland taken from Calvert contr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glican official church; Catholics barred from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15—proprietorship restored to the Protestant fourth Lord Baltimor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ocal Aspirations with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 Atlantic Empi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1700, England’s attitude toward the colonies had changed dramatica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differences within the colonies were prof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re all part of Great Britain but had little to do with each o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monwealth of Fami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 New Englanders married neighbors with similar val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useholds produced their own needs and surplu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towns were collections of interrelated househo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urch membership associated with certain families and church activities increasingly reflected t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ducation provided by the 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’s Lives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Puritan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o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rm labor, although not necessarily same tasks as 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ten outnumbered men 2:1 in church membershi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 could not control proper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vorce difficult for a woman to obt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h genders accommodated themselves to roles they believed God orda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cial Hierarchy in New Eng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ence of very rich necessitated creation of new soci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social ord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cal gentry of prominent, pious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ge population of independent yeomen landowners loyal to local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mall population of landless laborers, servants, po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y moderate disparities of w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itude was more an apprenticeship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hallenge of the Chesapeake Environ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pite similarities in background and timing with New England, Chesapeake settlements were very differ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 death rate most important source of distinctiveness of Chesapeak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y Life at Ris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 family life impossible in Virgi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ly young male indentured servan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immigrants soon die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arriages, one spouse often died within seven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tended families comm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tality rates so high that without immigration, population would have decl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 in Chesapeake Socie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arcity gave some women bargaining power in marriage mark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male indentured servants vulnerable to sexual explo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ldbearing extremely danger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sapeake women died twenty years earlier than women in New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3:01Z</dcterms:modified>
  <cp:revision>13</cp:revision>
  <dc:subject/>
  <dc:title>CHAPTER 2 Putting Down Roots   Opportunity and Oppression in Colonial Society</dc:title>
</cp:coreProperties>
</file>